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016C183-A254-459E-BE49-7312E2087A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0A35202-65FC-4B77-B339-B2C72910C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61D4734-A8F0-4E2C-8F5A-F567C4E05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5DA406C-D0EC-4265-AEDD-6A5243C81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A5B62CE-7300-49F6-9F82-F55166E31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FC15-D3F8-4531-A06B-F29215296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01954-00FA-4CEB-B603-C0BD80D19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4BCE2-6280-4310-BF71-0D0ECC1CB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00B2D-2F5E-4D77-83C3-8C1769A21F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C4DC7-0F27-4845-A8DF-F0C7DE7F53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1460A-B84A-485B-96ED-5E84D7B5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44BD6-C964-4F67-8CAD-723C6AA1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A5E52-1AAC-44B3-BB6D-A18C5AD9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4CC91-324A-41B9-A831-016DCF0C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C0BAE-40C3-4A25-84DD-6D9301F3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B7D23-49E1-425B-A46B-501CA51D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797C-5E0E-4BBA-A74D-666D9F504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3214F-2AD3-4C08-A568-2AA1CB92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EE570-AEF3-4BC1-963D-034145E9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C3945-A9E4-4519-B9AF-0524C4F0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8CD1F-C3F3-44C3-AC8E-0CEC66E9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9F7E5-29E6-4232-B935-11E8CC06A3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A4718-00DE-43B7-BF89-C614EE785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DA447-971E-4342-AEAA-3D6574A42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9139-6A06-4440-BD3F-C9C09050D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6F79-904B-491D-86B3-68F28E457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EA665-587C-4DC0-94D8-C4A012383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6CC3-275F-4789-95AC-33FB51F88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A75A-74C6-4A8B-88A5-2AC3CB4AB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23D7-36F7-4613-A4A5-AA2A5EEDFBF2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7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sp>
        <p:nvSpPr>
          <p:cNvPr id="5" name="Rectangle 29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468360" y="643248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07 Dec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arbre32"/>
          <p:cNvPicPr/>
          <p:nvPr/>
        </p:nvPicPr>
        <p:blipFill>
          <a:blip r:embed="rId3"/>
          <a:stretch/>
        </p:blipFill>
        <p:spPr>
          <a:xfrm>
            <a:off x="0" y="2724120"/>
            <a:ext cx="5311800" cy="3578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1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3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840" y="1714680"/>
            <a:ext cx="850104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Methodological approaches for capturing the impact of Leader and of measures to improve quality of life in rural area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900000" y="4292640"/>
            <a:ext cx="745992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 and process of the Thematic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CHAEL HEG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lpdesk 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686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83720" indent="-3402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s a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losing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oncluding drafting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the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 to the </a:t>
            </a:r>
            <a:r>
              <a:rPr b="0" lang="pl-PL" sz="2400" spc="-1" strike="noStrike">
                <a:solidFill>
                  <a:srgbClr val="006666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xper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Fine-tu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Working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Dissemin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definition of relevant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follow-up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help make the guidance more operational to Member St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0955-923D-4A99-9A19-D2109DDA46D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STEP 3: VALIDATION &amp; FIN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221000"/>
            <a:ext cx="88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Timelin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inalisation workshop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May 18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)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inalisation drafting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of Working Paper 3 (WP3), May 26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i) presentation of WP3 to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Expert Committe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early Jun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v) Fine-tuning and dissemination of guidance and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efinition of </a:t>
            </a:r>
            <a:br>
              <a:rPr sz="2000"/>
            </a:br>
            <a:r>
              <a:rPr b="1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   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ollow-up activities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end Jun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E868-1439-49B0-802E-A22EB0B02FF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9BFC-9A2F-42C3-9699-750FB63AA2D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el 1"/>
          <p:cNvSpPr/>
          <p:nvPr/>
        </p:nvSpPr>
        <p:spPr>
          <a:xfrm>
            <a:off x="0" y="0"/>
            <a:ext cx="6516720" cy="1197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CONTENT OF THE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haltsplatzhalter 2"/>
          <p:cNvSpPr/>
          <p:nvPr/>
        </p:nvSpPr>
        <p:spPr>
          <a:xfrm>
            <a:off x="395280" y="1628640"/>
            <a:ext cx="822960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States’ needs for methodological gui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 in assessing impacts for Leader and Quality of Life (axes 3 &amp;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ematic working group (TWG)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Objective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expected results, proposed methods,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83AB-DD46-487C-A347-679829A964D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haltsplatzhalter 2"/>
          <p:cNvSpPr/>
          <p:nvPr/>
        </p:nvSpPr>
        <p:spPr>
          <a:xfrm>
            <a:off x="395280" y="1484280"/>
            <a:ext cx="8137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s assessment conducted throu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cus Groups (2008 &amp; 2009) in Member States (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issions to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etings / other contacts with evaluation community from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MEMBER STATES’ NEEDS FOR METHODOLOGICAL GUIDANC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2DD9-EA9F-43C9-B4B8-E5728350EBA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haltsplatzhalter 2"/>
          <p:cNvSpPr/>
          <p:nvPr/>
        </p:nvSpPr>
        <p:spPr>
          <a:xfrm>
            <a:off x="46836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findings of needs assessment for evaluation of impacts of axes 3 &amp;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adequate definitions, criteria and indicators for LEADER and Quality of Lif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ackling the qualitative nature of the eff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dentifying contributions of small-scale interv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ing the stimulation of cultural change through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entangle Leader effects from deadweight, double counting, displacement and other intervention policies (viz. counterfact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olving beneficiaries in the evaluation process (reliable data, active participation in the evaluation pro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MEMBER STATES’ NEEDS FOR METHODOLOGICAL GUIDANC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current identified challenges (draft Concept Note) complementing needs assess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ommon Evaluation Ques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re challenging – assessing effects of the Leader approach, and contribution to improved qualit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ing the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“double scope” of Lead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process and produ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little guidance in CME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although some previous experience from Leader II &amp; Leader+, &amp; Quality of Life 2000-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+ stressed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“structuring a common evaluation strateg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t all levels…&amp; should follow an overall bottom-up approac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Gaps in evaluator specialis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contextual knowledge, experi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ling with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iffuse distribution of effec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terms of time, geography, community and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MEF requirements estimating impact at: a)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local lev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and b) contribution to general trend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t programm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CHALLENGES IN ASSESSING IMPACTS OF LEADER AND QUALITY OF LIFE 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8921-A4B8-4D61-906A-954B122FAB0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THE THEMATIC WORKING GROUP PROCES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provide practical methodological guidance in assessing the impacts of Leader and measures to improve the Quality of Life through rural development program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cte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guidance document describing state-of-the-art and current/good evaluation practice and complementary tools, to suppo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-228600">
              <a:spcBef>
                <a:spcPts val="451"/>
              </a:spcBef>
              <a:buClr>
                <a:srgbClr val="00646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programme evaluators/MAs to make use of 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optimal approaches to rural development evaluation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 and …..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lvl="2" marL="1216080" indent="-228600">
              <a:spcBef>
                <a:spcPts val="451"/>
              </a:spcBef>
              <a:buClr>
                <a:srgbClr val="00646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to 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select appropriate evaluation methods and tool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lvl="2" marL="1216080" indent="-228600">
              <a:spcBef>
                <a:spcPts val="451"/>
              </a:spcBef>
              <a:buClr>
                <a:srgbClr val="00646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development of 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convergent methods of RDP evaluation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 at EU-level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28BE-CDEF-43C1-AAC6-717843D97B2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THE THEMATIC WORKING GROUP PROCE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484280"/>
            <a:ext cx="7777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3-step proc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raf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and fin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STEP 1: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686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-44136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initiat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TWG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ising the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oncept No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thering and reviewing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urrent evaluation pract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state-of-the-ar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Leader and Quality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l kick-off of the process through a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worksho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1CA1-2A7E-436D-B59A-A51E596259F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716280"/>
            <a:ext cx="88930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6463"/>
                </a:solidFill>
                <a:uFillTx/>
                <a:latin typeface="Arial"/>
                <a:ea typeface="Arial"/>
              </a:rPr>
              <a:t>Timelin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raft Concept Note, Nov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) questionnaire survey of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current practic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in MS, by Dec 18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i)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ocument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drafted on current practice in MS, by Jan 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v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d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ocument drafted on </a:t>
            </a:r>
            <a:r>
              <a:rPr b="1" lang="en-GB" sz="2000" spc="-1" strike="noStrike">
                <a:solidFill>
                  <a:srgbClr val="006666"/>
                </a:solidFill>
                <a:latin typeface="Arial"/>
                <a:ea typeface="Arial"/>
              </a:rPr>
              <a:t>state-of-the-art practices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by Jan 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v)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TWG composition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confirmed, by Jan 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vi) launch of TWG through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workshop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n Brussels, Jan 26 (or 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activity develops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draft working pap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ing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state-of-the-ar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 methods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incorporation of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detailed current pract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specific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evaluation challeng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Member Stat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wing also on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global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B7BD-FD15-44C4-A545-4EC1A34045A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STEP 2: DRAF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716280"/>
            <a:ext cx="87487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6463"/>
                </a:solidFill>
                <a:uFillTx/>
                <a:latin typeface="Arial"/>
                <a:ea typeface="Arial"/>
              </a:rPr>
              <a:t>Timelin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raft Working Paper 1 (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WP1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), Mar. 4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) workshop in MS, bringing forward detailed current practi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Mar 2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i) revised draft Working Paper 2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(WP2), sent to MS, Apr.16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v) 2nd workshop in MS (if required) for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urther current practic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Apr 29 → incorporated into Working Paper 3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(WP3), May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23:27Z</dcterms:created>
  <dc:creator>AEIDL</dc:creator>
  <dc:description/>
  <dc:language>en-US</dc:language>
  <cp:lastModifiedBy>zaoujjo</cp:lastModifiedBy>
  <cp:lastPrinted>2008-05-30T14:18:28Z</cp:lastPrinted>
  <dcterms:modified xsi:type="dcterms:W3CDTF">2009-12-08T08:32:23Z</dcterms:modified>
  <cp:revision>454</cp:revision>
  <dc:subject/>
  <dc:title>EENRD presentation</dc:title>
</cp:coreProperties>
</file>